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FBB-2D94-4097-B7A1-A1B789CC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E97-3CB0-4006-A9AC-5F4913E5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22A-8B03-4A62-BCE1-1DC65046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8FD-CD27-4876-B01A-A4988138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EDC-265E-43A3-A6BA-B3951924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B64-8376-4854-8909-06D4F0AC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A33-B8F6-4079-A157-2B700174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8CB-13A8-4777-8572-71EC690D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1CB-4A5B-4C90-93D1-456C4E10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647-62D8-48F7-99C3-BBCA5850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66E-C9BA-4B20-935F-468B2F4B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185-9088-40B5-88E8-028BBD02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AD8A-26BD-426F-9BC2-D00A875E4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caas_sn_aaron_williams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36360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44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mediate 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uctures and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371600"/>
            <a:ext cx="75438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uctures and Strategies focuses on tactics and formation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ctivity we study this area through is: Baske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te the cycle of analysis for basketb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ncaas_sn_aaron_williams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36360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212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mediate 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uctures and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29528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1219320"/>
            <a:ext cx="3124080" cy="1752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2666880"/>
            <a:ext cx="2667240" cy="1828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4343400"/>
            <a:ext cx="3048120" cy="1905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666880"/>
            <a:ext cx="2666880" cy="1981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16002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476760" y="44956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057400" y="480060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676520" y="1676520"/>
            <a:ext cx="1752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ncaas_sn_aaron_williams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36360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129528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 a stru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a strate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an example of e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mediate 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uctures and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ncaas_sn_aaron_williams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36360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14400" y="457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mediate 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uctures and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066680"/>
            <a:ext cx="73915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an you gather information about your performance in basketba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three meth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are these methods valid and appropr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ncaas_sn_aaron_williams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36360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8080" y="1295280"/>
            <a:ext cx="731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ü Freez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wind and play footage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liable and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manent record of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rolled environ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s initial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etitive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57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mediate 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uctures and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ncaas_sn_aaron_williams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509760"/>
            <a:ext cx="7848720" cy="6348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4400" y="4572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mediate 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uctures and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7391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les and responsibil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u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s of quality do they requi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caas_sn_aaron_williams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509760"/>
            <a:ext cx="7848720" cy="6348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38080" y="609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mediate 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uctures and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129528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day 2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Jan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2:21:07Z</dcterms:created>
  <dc:creator>HamiltonP</dc:creator>
  <dc:description/>
  <dc:language>en-US</dc:language>
  <cp:lastModifiedBy>HamiltonP</cp:lastModifiedBy>
  <dcterms:modified xsi:type="dcterms:W3CDTF">2007-01-15T12:21:32Z</dcterms:modified>
  <cp:revision>1</cp:revision>
  <dc:subject/>
  <dc:title>PowerPoint Presentation</dc:title>
</cp:coreProperties>
</file>